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B32B-D4BB-4C8E-BE51-614DF12E95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0AEB-E915-4628-B5B8-E7B97C5081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69B2-806E-4665-B7E4-FA550D27B8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DFB8-CF7A-4020-901F-18C9BDF748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1CA8-94D4-4BF0-AA5A-6927C3AC10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EC61-0477-4D65-B3C5-90C6018AE9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15D7-B5B7-459F-A2E3-06806D8D1D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BFE8-5233-4AEC-AC1C-E4E7E702F1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43BD-38AB-470A-903B-4111B9F741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E5B9-EFD7-4BA0-8A1B-3185A13697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6ECE-BB2D-4391-89C9-27636624E5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B1F1-EF94-4AF6-86EA-909E7CC6629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Pゴシック"/>
              </a:rPr>
              <a:t>Home Front in World War I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25" descr="hsus_ch19_s2_UncleSamPoster"/>
          <p:cNvPicPr/>
          <p:nvPr/>
        </p:nvPicPr>
        <p:blipFill>
          <a:blip r:embed="rId1"/>
          <a:stretch/>
        </p:blipFill>
        <p:spPr>
          <a:xfrm>
            <a:off x="3352680" y="2286000"/>
            <a:ext cx="22482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4"/>
          <p:cNvSpPr/>
          <p:nvPr/>
        </p:nvSpPr>
        <p:spPr>
          <a:xfrm flipH="1" rot="5400000">
            <a:off x="1218240" y="2209680"/>
            <a:ext cx="3200400" cy="3809880"/>
          </a:xfrm>
          <a:prstGeom prst="upArrowCallout">
            <a:avLst>
              <a:gd name="adj1" fmla="val 20937"/>
              <a:gd name="adj2" fmla="val 20519"/>
              <a:gd name="adj3" fmla="val 18843"/>
              <a:gd name="adj4" fmla="val 53315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129"/>
          <p:cNvSpPr/>
          <p:nvPr/>
        </p:nvSpPr>
        <p:spPr>
          <a:xfrm>
            <a:off x="5029200" y="2514600"/>
            <a:ext cx="350532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onscientious objec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were supposed to be exempt from the draf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practice, however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his exemption was widely ignored by local draft boar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28600" y="1447920"/>
            <a:ext cx="868680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Not all Americans supported the w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143000" y="2743200"/>
            <a:ext cx="26668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he draft was controversial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and some men refused to register for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10"/>
          <p:cNvSpPr/>
          <p:nvPr/>
        </p:nvSpPr>
        <p:spPr>
          <a:xfrm flipH="1" rot="10800000">
            <a:off x="838080" y="1523880"/>
            <a:ext cx="7391520" cy="1997280"/>
          </a:xfrm>
          <a:prstGeom prst="upArrowCallout">
            <a:avLst>
              <a:gd name="adj1" fmla="val 37902"/>
              <a:gd name="adj2" fmla="val 35106"/>
              <a:gd name="adj3" fmla="val 24505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29"/>
          <p:cNvSpPr/>
          <p:nvPr/>
        </p:nvSpPr>
        <p:spPr>
          <a:xfrm>
            <a:off x="1143000" y="3581280"/>
            <a:ext cx="701028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Jeannette Rankin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a pacifist and the only woman in Congress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voted against the w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Jane Addam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formed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Women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 Peace Part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and the Wome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International League for Peace and Freedo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295280" y="1828800"/>
            <a:ext cx="662940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ome women also opposed the w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0"/>
          <p:cNvSpPr/>
          <p:nvPr/>
        </p:nvSpPr>
        <p:spPr>
          <a:xfrm flipH="1" rot="10800000">
            <a:off x="838080" y="1143000"/>
            <a:ext cx="7391520" cy="1844640"/>
          </a:xfrm>
          <a:prstGeom prst="upArrowCallout">
            <a:avLst>
              <a:gd name="adj1" fmla="val 41039"/>
              <a:gd name="adj2" fmla="val 38011"/>
              <a:gd name="adj3" fmla="val 24505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447920" y="1311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government passed law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iscourage diss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914400" y="2967120"/>
            <a:ext cx="73915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1917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Espionage A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ave postal authorities power to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ban newspapers or other printed material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at could incite treas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18, the Sedition Act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outlawed speech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at went against the government or the milita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ongress enacted laws that impos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heavy fines and prison term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on anyone who interfered with the war effor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609480" y="12193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ar enthusiasm created by the CPI sometimes caused a backlash against German America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523880" y="2362320"/>
            <a:ext cx="62485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ome schools stopped teaching the German langu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eople stopped listening to music by German compos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y called hamburgers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liberty steaks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and dachshunds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liberty pups.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09480" y="51814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Occasionally, hatred of the German enemy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boiled over into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violence against German America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866880" y="990720"/>
            <a:ext cx="73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war effort presented new opportunitie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o individuals, including African America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648320" y="2438280"/>
            <a:ext cx="41148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ltogether, 367,000 African Americans served in the milita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Great Migration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more than a million African Americans 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  <a:ea typeface="Arial"/>
              </a:rPr>
              <a:t>moved north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hoping to escape poverty and Jim Crow laws and find better job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6" descr="hsus_ch19_2_GreatMigrationMap"/>
          <p:cNvPicPr/>
          <p:nvPr/>
        </p:nvPicPr>
        <p:blipFill>
          <a:blip r:embed="rId1"/>
          <a:stretch/>
        </p:blipFill>
        <p:spPr>
          <a:xfrm>
            <a:off x="419040" y="1962000"/>
            <a:ext cx="4152960" cy="42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866880" y="1143000"/>
            <a:ext cx="73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omen embraced the opportunities that became available during the w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AutoShape 4"/>
          <p:cNvSpPr/>
          <p:nvPr/>
        </p:nvSpPr>
        <p:spPr>
          <a:xfrm flipH="1" rot="5400000">
            <a:off x="1637280" y="1714320"/>
            <a:ext cx="2819520" cy="3809880"/>
          </a:xfrm>
          <a:prstGeom prst="upArrowCallout">
            <a:avLst>
              <a:gd name="adj1" fmla="val 20937"/>
              <a:gd name="adj2" fmla="val 20519"/>
              <a:gd name="adj3" fmla="val 21389"/>
              <a:gd name="adj4" fmla="val 53315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371600" y="2514600"/>
            <a:ext cx="228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Women filled job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were vacated by men and participated in the war effor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143000" y="525780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proving that they could succeed in any type of job, women convinced President Wilson to 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support their their demand to vote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5181480" y="259092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5029200" y="2362320"/>
            <a:ext cx="3429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s of jobs filled by wome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ct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r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mbulance driv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er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egraph operat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rm labor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914400" y="1981080"/>
            <a:ext cx="7238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how the American government mobilized the public to support the war effor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Describe opposition to World War I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Outline significant social changes that occurred during World War I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572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7200" y="121932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914400" y="2057400"/>
            <a:ext cx="784872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elective Service Ac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law that established a military draft in 191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Bernard Baruch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head of the War Industries Board, which regulated businesses related to the war eff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ommittee on Public Information (CPI)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government agency created during World War I to encourage Americans to support the w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George Cree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director of the CP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457200" y="12193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(continued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609480" y="1981080"/>
            <a:ext cx="800100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10000"/>
              </a:lnSpc>
              <a:spcAft>
                <a:spcPts val="1100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onscientious objecto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erson whose moral or religious views forbid participation in w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lnSpc>
                <a:spcPct val="110000"/>
              </a:lnSpc>
              <a:spcAft>
                <a:spcPts val="1100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Espionage Ac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act passed in 1917 enacting severe penalties for anyone engaged in disloyal or treasonable activi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lnSpc>
                <a:spcPct val="110000"/>
              </a:lnSpc>
              <a:spcAft>
                <a:spcPts val="1100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Great Migra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movement of African Americans in the twentieth century from the rural South to the industrial Nor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1"/>
          <p:cNvSpPr/>
          <p:nvPr/>
        </p:nvSpPr>
        <p:spPr>
          <a:xfrm>
            <a:off x="1752480" y="1523880"/>
            <a:ext cx="6705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ow did World War I affect Americans at hom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1752480" y="2590920"/>
            <a:ext cx="662940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war permanently changed Americans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relationship with their government. The federal government played a major role in Americans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daily lives, taking on new powers to regulate industry, draft soldiers, and shape public opinio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war required sacrifice, but it also brought new opportuniti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586080" cy="61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2"/>
          <p:cNvSpPr/>
          <p:nvPr/>
        </p:nvSpPr>
        <p:spPr>
          <a:xfrm>
            <a:off x="914400" y="1476360"/>
            <a:ext cx="8534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In 1917, the United States needed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increase the size of its arm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3809880" y="2752560"/>
            <a:ext cx="480060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esident Wilson called for volunteer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ongress passed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elective Service A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Aft>
                <a:spcPts val="1650"/>
              </a:spcAft>
              <a:buClr>
                <a:srgbClr val="0033cc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More than 4 million U.S. soldiers were sent to Euro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5" descr="hsus_ch19_s2_UncleSamPoster"/>
          <p:cNvPicPr/>
          <p:nvPr/>
        </p:nvPicPr>
        <p:blipFill>
          <a:blip r:embed="rId1"/>
          <a:stretch/>
        </p:blipFill>
        <p:spPr>
          <a:xfrm>
            <a:off x="990720" y="2676600"/>
            <a:ext cx="2247840" cy="30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29"/>
          <p:cNvSpPr/>
          <p:nvPr/>
        </p:nvSpPr>
        <p:spPr>
          <a:xfrm>
            <a:off x="762120" y="121932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o support the new army, the federal government took control of the econom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990720" y="2666880"/>
            <a:ext cx="647676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Council of National Defense created federal agencies to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oversee food production, fuel distribution, and railroa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160" indent="-227160">
              <a:spcBef>
                <a:spcPts val="12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Bernard Baruch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eaded the War Industries Board (WIB), which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regulated war-related busines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160" indent="-22716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Food Administration, led by Herbert Hoover,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set prices for agricultural produ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160" indent="-227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160" indent="-227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29"/>
          <p:cNvSpPr/>
          <p:nvPr/>
        </p:nvSpPr>
        <p:spPr>
          <a:xfrm>
            <a:off x="457200" y="12319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War Industries Board encouraged factories to increase outpu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44" descr=""/>
          <p:cNvPicPr/>
          <p:nvPr/>
        </p:nvPicPr>
        <p:blipFill>
          <a:blip r:embed="rId1"/>
          <a:stretch/>
        </p:blipFill>
        <p:spPr>
          <a:xfrm>
            <a:off x="609480" y="2222640"/>
            <a:ext cx="4114800" cy="372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0" name="Text Box 45"/>
          <p:cNvSpPr/>
          <p:nvPr/>
        </p:nvSpPr>
        <p:spPr>
          <a:xfrm>
            <a:off x="5029200" y="2374920"/>
            <a:ext cx="335268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imilarly, the Food Administration encouraged farmers to produce more food to feed the soldi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Women entered the workfor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to help the war effor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10"/>
          <p:cNvSpPr/>
          <p:nvPr/>
        </p:nvSpPr>
        <p:spPr>
          <a:xfrm flipH="1" rot="10800000">
            <a:off x="838080" y="1294920"/>
            <a:ext cx="7391520" cy="1676520"/>
          </a:xfrm>
          <a:prstGeom prst="upArrowCallout">
            <a:avLst>
              <a:gd name="adj1" fmla="val 45154"/>
              <a:gd name="adj2" fmla="val 41823"/>
              <a:gd name="adj3" fmla="val 24505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523880" y="14479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government also aimed to shape public opinio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143000" y="3124080"/>
            <a:ext cx="71629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ommittee on Public informa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(CPI)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encouraged public support for the w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CSI, headed by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George Creel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distributed millions of pamphlets and sent out thousands of press releases and speak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PI materials outlined U.S. and Allied goals an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tressed the enemy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 cruelt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Mark Scacewater</cp:lastModifiedBy>
  <cp:lastPrinted>2008-05-21T18:42:16Z</cp:lastPrinted>
  <dcterms:modified xsi:type="dcterms:W3CDTF">2012-09-30T21:03:55Z</dcterms:modified>
  <cp:revision>196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